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4D9C-2415-43B9-9258-CFF2A0D6B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7A37-E586-4534-90E6-BF1D49F134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7634-00B7-4E26-9C70-3639A4C6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2780-332B-49ED-8BE1-F58575A0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68B3-A49E-4D60-AE1A-B4147CBA7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C6DB-B5BD-4D3A-AB7F-D79B9219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AEC2-40FF-4415-B516-8B95D32F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852D-9D5C-4025-9B98-47676049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C685-7B3A-4068-B571-514845F8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B4A9-020F-4C78-B618-E114B307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B7C0-6A96-485A-AE56-FBF41DAF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807D-8EB4-40C9-A5B3-939481BE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800E-62A2-4503-94CA-D8C0C07E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08ED-183A-43EE-8905-19BB272E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7FF0-9B91-44AC-A2D9-7E4191EC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716E-CA84-455A-BA04-6D086716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9087-267B-4077-88B1-997F2394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82EF-1562-4179-98BB-48E4ED8EA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CBD2-88C2-445B-B33E-05482BB93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7E5BB-E970-4901-92CB-4A3D521DA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765B2-3D4B-4334-98C5-ECA9B346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4D018-BEA8-4C1B-BCFF-3D474C98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551D0-6F0D-4F46-A832-16A87F6C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1F9CA-2C90-4094-8137-8E473436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DE45-A9C5-4CEE-A1B6-99805E8B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5384F-0F63-48F9-BE6F-9D0F6687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25879-BF44-4A1C-A5B8-151B01B9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58D39-494D-4A90-856E-803416BD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9D150-F646-4AA3-AB5C-E79876A0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7A323-2892-4B6D-B20F-399791D5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4A5C9-E158-4909-8FE1-B84E3027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42E8A-8516-4E96-BF78-BF78B74D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34FE2-E626-4494-8F14-ACD3015D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813D9-F8A3-4C6F-8DAE-3999E157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5D3E7-B011-4C26-9A95-DFFF2C80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3A02-916B-4451-A1E9-032359E3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1216E-2DAD-4466-9CC1-34433FFC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E19BE-84CB-4449-8828-CA1C7243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B5D86-EE21-4A76-B8A4-EA8A6309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A3C5D-CD9B-4FB9-BD35-77C488E2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7CDFD-A351-4493-BBAD-AAFC3A59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23461-C995-4698-B6EF-0623ED1E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318DE-5A47-4EDB-BF6B-78DDBAA3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BA9D3-C7AB-4CC1-8D68-1004E2EF8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3D847-CE00-48AD-AC5F-EE6911FB7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E905-DECE-49CA-BCED-D03D03BF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B5D5-A9E1-4E96-8949-1FC3BF25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CEEC-4591-4245-A1CB-1D83AD79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DA77-71DC-4533-BD40-C0B30705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DB66-49DE-45EC-8C60-7974C61F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EBA4-DEE0-4AD1-89F8-F6414381385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5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8" name="Freeform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E46F-70DD-439C-ADBF-3EA7EAD81A8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5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Freeform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878D-C558-4D54-B1A5-B69AA5250D8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1167-2F22-4089-8234-EC054D50D83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Rectangle 2" descr=""/>
          <p:cNvPicPr/>
          <p:nvPr/>
        </p:nvPicPr>
        <p:blipFill>
          <a:blip r:embed="rId1"/>
          <a:stretch/>
        </p:blipFill>
        <p:spPr>
          <a:xfrm>
            <a:off x="36360" y="194472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  <a:ea typeface="Arial"/>
              </a:rPr>
              <a:t>Ринг хромозом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2133360"/>
            <a:ext cx="50036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Делеција у генетичком смисл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п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ремећај у раст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лака ментална ретард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Ако настаје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без делециј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простом фузијом теломерних регион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осиоци углавном немају фенотипске аномалиј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7" descr="ring"/>
          <p:cNvPicPr/>
          <p:nvPr/>
        </p:nvPicPr>
        <p:blipFill>
          <a:blip r:embed="rId1"/>
          <a:stretch/>
        </p:blipFill>
        <p:spPr>
          <a:xfrm>
            <a:off x="5791320" y="1523880"/>
            <a:ext cx="1658880" cy="2198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figure12"/>
          <p:cNvPicPr/>
          <p:nvPr/>
        </p:nvPicPr>
        <p:blipFill>
          <a:blip r:embed="rId2"/>
          <a:stretch/>
        </p:blipFill>
        <p:spPr>
          <a:xfrm>
            <a:off x="5172120" y="3843360"/>
            <a:ext cx="328752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упликације </a:t>
            </a: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–чисте парцијалне тризомије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5580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већање одређеног сегмента у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ромозому, </a:t>
            </a:r>
            <a:r>
              <a:rPr b="0" lang="en-US" sz="2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т</a:t>
            </a:r>
            <a:r>
              <a:rPr b="0" lang="sr-Latn-CS" sz="2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андем дуплика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може настат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) 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серцијом једне </a:t>
            </a:r>
            <a:r>
              <a:rPr b="1" lang="sr-Latn-CS" sz="2000" spc="-1" strike="noStrike">
                <a:solidFill>
                  <a:srgbClr val="c00000"/>
                </a:solidFill>
                <a:latin typeface="Arial"/>
                <a:ea typeface="Arial"/>
              </a:rPr>
              <a:t>хроматид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у друг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б) 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серцијом сегмента са једног ланца </a:t>
            </a:r>
            <a:r>
              <a:rPr b="1" lang="sr-Latn-CS" sz="2000" spc="-1" strike="noStrike">
                <a:solidFill>
                  <a:srgbClr val="c00000"/>
                </a:solidFill>
                <a:latin typeface="Arial"/>
                <a:ea typeface="Arial"/>
              </a:rPr>
              <a:t>ДН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у друг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) 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серцијом сегмената из хомологог </a:t>
            </a:r>
            <a:r>
              <a:rPr b="1" lang="sr-Latn-CS" sz="2000" spc="-1" strike="noStrike">
                <a:solidFill>
                  <a:srgbClr val="c00000"/>
                </a:solidFill>
                <a:latin typeface="Arial"/>
                <a:ea typeface="Arial"/>
              </a:rPr>
              <a:t>хромозо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упликација настаје и </a:t>
            </a:r>
            <a:r>
              <a:rPr b="0" lang="en-US" sz="2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н</a:t>
            </a:r>
            <a:r>
              <a:rPr b="0" lang="sr-Latn-CS" sz="2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еправилним </a:t>
            </a:r>
            <a:r>
              <a:rPr b="0" lang="en-US" sz="2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crossing over-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ање оштећују фенотип него деле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п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.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ен з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емоглобин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H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1" descr=""/>
          <p:cNvPicPr/>
          <p:nvPr/>
        </p:nvPicPr>
        <p:blipFill>
          <a:blip r:embed="rId1"/>
          <a:stretch/>
        </p:blipFill>
        <p:spPr>
          <a:xfrm>
            <a:off x="5724360" y="1700280"/>
            <a:ext cx="3024360" cy="40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-19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  <a:ea typeface="Arial"/>
              </a:rPr>
              <a:t>Изохромозом</a:t>
            </a:r>
            <a:r>
              <a:rPr b="0" lang="sr-Latn-CS" sz="5000" spc="-1" strike="noStrike">
                <a:solidFill>
                  <a:srgbClr val="dbf5f9"/>
                </a:solidFill>
                <a:latin typeface="Arial"/>
                <a:ea typeface="Arial"/>
              </a:rPr>
              <a:t> 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25280" y="1152360"/>
            <a:ext cx="889344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ста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када се центромера грешком подели попречно (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crosswi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јчешће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o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6, Xi (X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1" descr=""/>
          <p:cNvPicPr/>
          <p:nvPr/>
        </p:nvPicPr>
        <p:blipFill>
          <a:blip r:embed="rId1"/>
          <a:stretch/>
        </p:blipFill>
        <p:spPr>
          <a:xfrm>
            <a:off x="1739880" y="2708280"/>
            <a:ext cx="58564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ectangle 2" descr=""/>
          <p:cNvPicPr/>
          <p:nvPr/>
        </p:nvPicPr>
        <p:blipFill>
          <a:blip r:embed="rId1"/>
          <a:stretch/>
        </p:blipFill>
        <p:spPr>
          <a:xfrm>
            <a:off x="24912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25280" y="1341000"/>
            <a:ext cx="8893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тко настаје спонтано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е услед делеције теломера два хромозома а затим њиховом транслокацијом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да буду стабилни  у хромозомском се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1" descr=""/>
          <p:cNvPicPr/>
          <p:nvPr/>
        </p:nvPicPr>
        <p:blipFill>
          <a:blip r:embed="rId2"/>
          <a:stretch/>
        </p:blipFill>
        <p:spPr>
          <a:xfrm>
            <a:off x="4970520" y="3424320"/>
            <a:ext cx="3578040" cy="33829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3"/>
          <a:stretch/>
        </p:blipFill>
        <p:spPr>
          <a:xfrm>
            <a:off x="549360" y="3503520"/>
            <a:ext cx="41148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95520" y="136080"/>
            <a:ext cx="496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  <a:ea typeface="Arial"/>
              </a:rPr>
              <a:t>Инверзије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99128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Настају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усле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два прекида у оквиру једног хромозома и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о</a:t>
            </a:r>
            <a:r>
              <a:rPr b="0" lang="sr-RS" sz="2400" spc="-1" strike="noStrike">
                <a:solidFill>
                  <a:srgbClr val="c00000"/>
                </a:solidFill>
                <a:latin typeface="Arial"/>
                <a:ea typeface="Arial"/>
              </a:rPr>
              <a:t>кретања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сегмента између прекида за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180</a:t>
            </a:r>
            <a:r>
              <a:rPr b="0" lang="sr-Latn-CS" sz="2400" spc="-1" strike="noStrike" baseline="30000">
                <a:solidFill>
                  <a:srgbClr val="c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858920" y="4581000"/>
            <a:ext cx="397044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 B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c00000"/>
                </a:solidFill>
                <a:uFillTx/>
                <a:latin typeface="Arial"/>
              </a:rPr>
              <a:t>C D E F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 H I J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 B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c00000"/>
                </a:solidFill>
                <a:uFillTx/>
                <a:latin typeface="Arial"/>
              </a:rPr>
              <a:t>F E D C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 H I J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1" descr=""/>
          <p:cNvPicPr/>
          <p:nvPr/>
        </p:nvPicPr>
        <p:blipFill>
          <a:blip r:embed="rId1"/>
          <a:stretch/>
        </p:blipFill>
        <p:spPr>
          <a:xfrm>
            <a:off x="1090440" y="2852640"/>
            <a:ext cx="335916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parainv"/>
          <p:cNvPicPr/>
          <p:nvPr/>
        </p:nvPicPr>
        <p:blipFill>
          <a:blip r:embed="rId2"/>
          <a:stretch/>
        </p:blipFill>
        <p:spPr>
          <a:xfrm>
            <a:off x="4716360" y="2060640"/>
            <a:ext cx="2892600" cy="3168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periinv"/>
          <p:cNvPicPr/>
          <p:nvPr/>
        </p:nvPicPr>
        <p:blipFill>
          <a:blip r:embed="rId3"/>
          <a:stretch/>
        </p:blipFill>
        <p:spPr>
          <a:xfrm>
            <a:off x="1692360" y="2060640"/>
            <a:ext cx="2936880" cy="32400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8"/>
          <p:cNvSpPr/>
          <p:nvPr/>
        </p:nvSpPr>
        <p:spPr>
          <a:xfrm>
            <a:off x="1547640" y="4797360"/>
            <a:ext cx="3095640" cy="703800"/>
          </a:xfrm>
          <a:prstGeom prst="rect">
            <a:avLst/>
          </a:prstGeom>
          <a:solidFill>
            <a:srgbClr val="fbda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ерицентрична инвер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4788000" y="4797360"/>
            <a:ext cx="2663640" cy="703800"/>
          </a:xfrm>
          <a:prstGeom prst="rect">
            <a:avLst/>
          </a:prstGeom>
          <a:solidFill>
            <a:srgbClr val="fbda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арацентрична инвер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440856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перицентричн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 инверзија</a:t>
            </a:r>
            <a:endParaRPr b="0" lang="en-US" sz="25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356000" y="514080"/>
            <a:ext cx="48592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парацентрична инверзиј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4" descr="INVERZIJE"/>
          <p:cNvPicPr/>
          <p:nvPr/>
        </p:nvPicPr>
        <p:blipFill>
          <a:blip r:embed="rId1"/>
          <a:stretch/>
        </p:blipFill>
        <p:spPr>
          <a:xfrm>
            <a:off x="-468360" y="1251000"/>
            <a:ext cx="961236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Arial"/>
              </a:rPr>
              <a:t>Генетички ризици за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 потомство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1934640"/>
            <a:ext cx="4038480" cy="451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c00000"/>
                </a:solidFill>
                <a:latin typeface="Arial"/>
                <a:ea typeface="Arial"/>
              </a:rPr>
              <a:t>Перицентрична инв</a:t>
            </a:r>
            <a:r>
              <a:rPr b="0" lang="sr-CS" sz="2500" spc="-1" strike="noStrike">
                <a:solidFill>
                  <a:srgbClr val="c00000"/>
                </a:solidFill>
                <a:latin typeface="Arial"/>
                <a:ea typeface="Arial"/>
              </a:rPr>
              <a:t>ерзиј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  <a:ea typeface="Arial"/>
              </a:rPr>
              <a:t>25% нормално дет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  <a:ea typeface="Arial"/>
              </a:rPr>
              <a:t>25% нормално дет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-   </a:t>
            </a:r>
            <a:r>
              <a:rPr b="1" i="1" lang="sr-Latn-CS" sz="2500" spc="-1" strike="noStrike">
                <a:solidFill>
                  <a:srgbClr val="000000"/>
                </a:solidFill>
                <a:latin typeface="Arial"/>
                <a:ea typeface="Arial"/>
              </a:rPr>
              <a:t>носилац инверзиј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  <a:ea typeface="Arial"/>
              </a:rPr>
              <a:t>50% фенотипски и генотипски абнормално дет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284720" y="1935000"/>
            <a:ext cx="485928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c00000"/>
                </a:solidFill>
                <a:latin typeface="Arial"/>
                <a:ea typeface="Arial"/>
              </a:rPr>
              <a:t>Парацентрична инв</a:t>
            </a:r>
            <a:r>
              <a:rPr b="0" lang="sr-CS" sz="2500" spc="-1" strike="noStrike">
                <a:solidFill>
                  <a:srgbClr val="c00000"/>
                </a:solidFill>
                <a:latin typeface="Arial"/>
                <a:ea typeface="Arial"/>
              </a:rPr>
              <a:t>ерзиј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RS" sz="2500" spc="-1" strike="noStrike">
                <a:solidFill>
                  <a:srgbClr val="000000"/>
                </a:solidFill>
                <a:latin typeface="Arial"/>
                <a:ea typeface="Arial"/>
              </a:rPr>
              <a:t>25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%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  <a:ea typeface="Arial"/>
              </a:rPr>
              <a:t> нормално дете</a:t>
            </a:r>
            <a:r>
              <a:rPr b="0" lang="sr-RS" sz="2500" spc="-1" strike="noStrike">
                <a:solidFill>
                  <a:srgbClr val="000000"/>
                </a:solidFill>
                <a:latin typeface="Arial"/>
                <a:ea typeface="Arial"/>
              </a:rPr>
              <a:t>  (50%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RS" sz="2500" spc="-1" strike="noStrike">
                <a:solidFill>
                  <a:srgbClr val="000000"/>
                </a:solidFill>
                <a:latin typeface="Arial"/>
                <a:ea typeface="Arial"/>
              </a:rPr>
              <a:t>25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%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  <a:ea typeface="Arial"/>
              </a:rPr>
              <a:t> генотипски аб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  <a:ea typeface="Arial"/>
              </a:rPr>
              <a:t>ормално дете</a:t>
            </a:r>
            <a:r>
              <a:rPr b="0" lang="sr-RS" sz="2500" spc="-1" strike="noStrike">
                <a:solidFill>
                  <a:srgbClr val="000000"/>
                </a:solidFill>
                <a:latin typeface="Arial"/>
                <a:ea typeface="Arial"/>
              </a:rPr>
              <a:t>, фенотипски нормално        (50%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5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  <a:ea typeface="Arial"/>
              </a:rPr>
              <a:t>50% гамета пропада -25%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  <a:ea typeface="Arial"/>
              </a:rPr>
              <a:t>који имају дицентик и 25% ацентрик</a:t>
            </a:r>
            <a:r>
              <a:rPr b="0" lang="sr-RS" sz="2500" spc="-1" strike="noStrike">
                <a:solidFill>
                  <a:srgbClr val="000000"/>
                </a:solidFill>
                <a:latin typeface="Arial"/>
                <a:ea typeface="Arial"/>
              </a:rPr>
              <a:t>  или и ако се деси оплођење ембриони завршавају као рани спонтани побачаји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  <a:ea typeface="Times New Roman"/>
              </a:rPr>
              <a:t>Транспозиције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188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мештање групе гена са једног места на хромозому на друго место, у оригиналној позициј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  B </a:t>
            </a:r>
            <a:r>
              <a:rPr b="1" lang="sr-Latn-CS" sz="28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C D E</a:t>
            </a:r>
            <a:r>
              <a:rPr b="0" lang="sr-Latn-CS" sz="28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 G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A B F G </a:t>
            </a:r>
            <a:r>
              <a:rPr b="1" lang="sr-Latn-CS" sz="28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C D 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  <a:ea typeface="Times New Roman"/>
              </a:rPr>
              <a:t>Транслокације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мена генетичког материјала између два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нехомолог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ромозо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јава да се један хромозом или један његов де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транслоци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на друг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гу да буд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Реципроч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Робертсоно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Нереципроч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транслокације (инсерциј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445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СТРУКТУРНЕ АБЕРАЦИЈЕ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1934640"/>
            <a:ext cx="878544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труктурне абераци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е су п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ромене у грађи хромозома које су условљене прекидима и поремећајима линеарног континуитета хромозом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7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7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рекиди могу бити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6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sr-CS" sz="2600" spc="-1" strike="noStrike">
                <a:solidFill>
                  <a:srgbClr val="c00000"/>
                </a:solidFill>
                <a:latin typeface="Arial"/>
              </a:rPr>
              <a:t>Хромозомск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– у 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G</a:t>
            </a:r>
            <a:r>
              <a:rPr b="1" lang="sr-CS" sz="2600" spc="-1" strike="noStrike" baseline="-25000">
                <a:solidFill>
                  <a:srgbClr val="c00000"/>
                </a:solidFill>
                <a:latin typeface="Arial"/>
              </a:rPr>
              <a:t>1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фаз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6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CS" sz="2600" spc="-1" strike="noStrike">
                <a:solidFill>
                  <a:srgbClr val="c00000"/>
                </a:solidFill>
                <a:latin typeface="Arial"/>
              </a:rPr>
              <a:t>Хроматидн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– у 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G</a:t>
            </a:r>
            <a:r>
              <a:rPr b="1" lang="sr-CS" sz="2600" spc="-1" strike="noStrike" baseline="-25000">
                <a:solidFill>
                  <a:srgbClr val="c00000"/>
                </a:solidFill>
                <a:latin typeface="Arial"/>
              </a:rPr>
              <a:t>2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фаз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6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sr-CS" sz="2600" spc="-1" strike="noStrike">
                <a:solidFill>
                  <a:srgbClr val="c00000"/>
                </a:solidFill>
                <a:latin typeface="Arial"/>
              </a:rPr>
              <a:t>Изохроматидн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r-CS" sz="2600" spc="-1" strike="noStrike">
                <a:solidFill>
                  <a:srgbClr val="c00000"/>
                </a:solidFill>
                <a:latin typeface="Arial"/>
              </a:rPr>
              <a:t>обе сестринске хроматид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6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6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c00000"/>
                </a:solidFill>
                <a:latin typeface="Arial"/>
              </a:rPr>
              <a:t>Фрагилна места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– региони хромозома подложни прекидима (хромозоми:1, 2, 10, 11, 12, 16, 17, 20, Х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7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1. Реципрочна транслокација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17648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бострана размена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сегменат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змеђу оба пара нехомологих хромозома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хомозиготна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хетерозиготна</a:t>
            </a:r>
            <a:r>
              <a:rPr b="1" lang="sr-RS" sz="2400" spc="-1" strike="noStrike">
                <a:solidFill>
                  <a:srgbClr val="c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бично су безазлене з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осиоца, али носе значаја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изик за формирањ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берантних гам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че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лост:  1: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1" descr=""/>
          <p:cNvPicPr/>
          <p:nvPr/>
        </p:nvPicPr>
        <p:blipFill>
          <a:blip r:embed="rId1"/>
          <a:stretch/>
        </p:blipFill>
        <p:spPr>
          <a:xfrm>
            <a:off x="4284720" y="2292480"/>
            <a:ext cx="47512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Object 2"/>
          <p:cNvGraphicFramePr/>
          <p:nvPr/>
        </p:nvGraphicFramePr>
        <p:xfrm>
          <a:off x="755640" y="-20520"/>
          <a:ext cx="7993080" cy="66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-20520"/>
                    <a:ext cx="7993080" cy="66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fig%201-6"/>
          <p:cNvPicPr/>
          <p:nvPr/>
        </p:nvPicPr>
        <p:blipFill>
          <a:blip r:embed="rId1"/>
          <a:stretch/>
        </p:blipFill>
        <p:spPr>
          <a:xfrm>
            <a:off x="1042920" y="1916280"/>
            <a:ext cx="6913800" cy="4667040"/>
          </a:xfrm>
          <a:prstGeom prst="rect">
            <a:avLst/>
          </a:prstGeom>
          <a:ln w="0">
            <a:noFill/>
          </a:ln>
        </p:spPr>
      </p:pic>
      <p:pic>
        <p:nvPicPr>
          <p:cNvPr id="254" name="Rectangle 5" descr=""/>
          <p:cNvPicPr/>
          <p:nvPr/>
        </p:nvPicPr>
        <p:blipFill>
          <a:blip r:embed="rId2"/>
          <a:stretch/>
        </p:blipFill>
        <p:spPr>
          <a:xfrm>
            <a:off x="0" y="274680"/>
            <a:ext cx="91440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Генетички ризици за потомство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50560" y="1557360"/>
            <a:ext cx="4249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Теоретск</a:t>
            </a:r>
            <a:r>
              <a:rPr b="0" lang="sr-R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0% потомака са небалансираном транслокациј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5% носилаца балансиране транслока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5% генотипски и фенотипски нормал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00720" y="1557360"/>
            <a:ext cx="4643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Пракса је показа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% генотипски и фенотипски аберантних ако је мајка носила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% аберантних ако је отац носилац транслока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000000"/>
                </a:solidFill>
                <a:latin typeface="Arial"/>
                <a:ea typeface="Arial"/>
              </a:rPr>
              <a:t>Реципрочне транслокације могу активирати протоонкогене:</a:t>
            </a:r>
            <a:endParaRPr b="0" lang="en-US" sz="3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-360" y="2421000"/>
            <a:ext cx="421164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р. </a:t>
            </a:r>
            <a:r>
              <a:rPr b="0" lang="sr-CS" sz="2600" spc="-1" strike="noStrike">
                <a:solidFill>
                  <a:srgbClr val="ff0000"/>
                </a:solidFill>
                <a:latin typeface="Arial"/>
                <a:ea typeface="Arial"/>
              </a:rPr>
              <a:t>Филаделфија хромозом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-реципрочна транслокација између хромозома 9 и 22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Узрокује </a:t>
            </a:r>
            <a:r>
              <a:rPr b="0" lang="sr-CS" sz="2600" spc="-1" strike="noStrike">
                <a:solidFill>
                  <a:srgbClr val="0070c0"/>
                </a:solidFill>
                <a:latin typeface="Arial"/>
                <a:ea typeface="Arial"/>
              </a:rPr>
              <a:t>хроничну мијелоидну леукемиј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4" descr="Trans_9_22"/>
          <p:cNvPicPr/>
          <p:nvPr/>
        </p:nvPicPr>
        <p:blipFill>
          <a:blip r:embed="rId1"/>
          <a:srcRect l="0" t="0" r="0" b="20756"/>
          <a:stretch/>
        </p:blipFill>
        <p:spPr>
          <a:xfrm>
            <a:off x="4500720" y="2421000"/>
            <a:ext cx="44989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760" y="25524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Робертсонове транслокације-центричне фузије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33000" y="1988640"/>
            <a:ext cx="47163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ранслокације између два </a:t>
            </a:r>
            <a:r>
              <a:rPr b="0" lang="sr-R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акроцентрична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ромозо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гу да буд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хомолог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x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етеролог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   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(нехомолог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cfusion"/>
          <p:cNvPicPr/>
          <p:nvPr/>
        </p:nvPicPr>
        <p:blipFill>
          <a:blip r:embed="rId1"/>
          <a:stretch/>
        </p:blipFill>
        <p:spPr>
          <a:xfrm>
            <a:off x="4572000" y="4797360"/>
            <a:ext cx="4032360" cy="1459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the acrocentric chromosomes"/>
          <p:cNvPicPr/>
          <p:nvPr/>
        </p:nvPicPr>
        <p:blipFill>
          <a:blip r:embed="rId2"/>
          <a:stretch/>
        </p:blipFill>
        <p:spPr>
          <a:xfrm>
            <a:off x="4986360" y="2214720"/>
            <a:ext cx="4152960" cy="226692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6"/>
          <p:cNvSpPr/>
          <p:nvPr/>
        </p:nvSpPr>
        <p:spPr>
          <a:xfrm>
            <a:off x="6535800" y="4924440"/>
            <a:ext cx="990360" cy="477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000" spc="-1" strike="noStrike">
                <a:solidFill>
                  <a:srgbClr val="000000"/>
                </a:solidFill>
                <a:latin typeface="Arial"/>
              </a:rPr>
              <a:t>Центричн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000" spc="-1" strike="noStrike">
                <a:solidFill>
                  <a:srgbClr val="000000"/>
                </a:solidFill>
                <a:latin typeface="Arial"/>
              </a:rPr>
              <a:t>фузиј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5945040" y="1660680"/>
            <a:ext cx="1676520" cy="459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Акроцентрични хромозо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Хомологе </a:t>
            </a: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Робертсонове транслокације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2060640"/>
            <a:ext cx="9144000" cy="42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стављај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ранслокације између два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хомолога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кроцентрична хромозом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ђ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1 21, 22 22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5 15..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4"/>
          <p:cNvPicPr/>
          <p:nvPr/>
        </p:nvPicPr>
        <p:blipFill>
          <a:blip r:embed="rId1"/>
          <a:stretch/>
        </p:blipFill>
        <p:spPr>
          <a:xfrm>
            <a:off x="2050920" y="3357720"/>
            <a:ext cx="5042160" cy="35002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4067280" y="5157720"/>
            <a:ext cx="1066680" cy="307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Мејо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219640" y="4653000"/>
            <a:ext cx="1295640" cy="398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000" spc="-1" strike="noStrike">
                <a:solidFill>
                  <a:srgbClr val="000000"/>
                </a:solidFill>
                <a:latin typeface="Arial"/>
              </a:rPr>
              <a:t>Робертсонова транслокациј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2484360" y="4869000"/>
            <a:ext cx="1671840" cy="246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000" spc="-1" strike="noStrike">
                <a:solidFill>
                  <a:srgbClr val="000000"/>
                </a:solidFill>
                <a:latin typeface="Arial"/>
              </a:rPr>
              <a:t>Нормална ћелиј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Хетерологе </a:t>
            </a: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Робертсонове транслокације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74" name="Picture 7" descr="image005"/>
          <p:cNvPicPr/>
          <p:nvPr/>
        </p:nvPicPr>
        <p:blipFill>
          <a:blip r:embed="rId1"/>
          <a:stretch/>
        </p:blipFill>
        <p:spPr>
          <a:xfrm>
            <a:off x="1763640" y="3573360"/>
            <a:ext cx="4638600" cy="250524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324000" y="184464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стављај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ранслокације између два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не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хомолога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кроцентрична хромозома хромозом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ђ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4 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21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5 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Робертсонова транслокација 1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 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 приказ могућих комбинација хромозома у гаметима који настају у мејози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179280" y="1692360"/>
            <a:ext cx="820908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252000" cy="52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ранслоцира се генетички материјал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а једног на друг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хромоз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или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а једног места на друго на истом хромозом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c00000"/>
                </a:solidFill>
                <a:latin typeface="Arial"/>
                <a:ea typeface="Arial"/>
              </a:rPr>
              <a:t>П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отребна су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Т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прекида</a:t>
            </a:r>
            <a:r>
              <a:rPr b="0" lang="sr-RS" sz="2400" spc="-1" strike="noStrike">
                <a:solidFill>
                  <a:srgbClr val="c00000"/>
                </a:solidFill>
                <a:latin typeface="Arial"/>
                <a:ea typeface="Arial"/>
              </a:rPr>
              <a:t> на 2 хромозом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c00000"/>
                </a:solidFill>
                <a:latin typeface="Arial"/>
                <a:ea typeface="Arial"/>
              </a:rPr>
              <a:t>на једном се десе 2 прекид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c00000"/>
                </a:solidFill>
                <a:latin typeface="Arial"/>
                <a:ea typeface="Arial"/>
              </a:rPr>
              <a:t>а на другом 1 преки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1" descr=""/>
          <p:cNvPicPr/>
          <p:nvPr/>
        </p:nvPicPr>
        <p:blipFill>
          <a:blip r:embed="rId2"/>
          <a:stretch/>
        </p:blipFill>
        <p:spPr>
          <a:xfrm>
            <a:off x="4565520" y="2997360"/>
            <a:ext cx="46418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Структурне промене могу бити: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834920" y="2204640"/>
            <a:ext cx="51181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Arial"/>
              </a:rPr>
              <a:t>1. интрахромозомс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Arial"/>
              </a:rPr>
              <a:t>2. интерхромозомс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148360" y="3573360"/>
            <a:ext cx="3168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b5395"/>
                </a:solidFill>
                <a:latin typeface="Arial"/>
              </a:rPr>
              <a:t>1. стабил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b5395"/>
                </a:solidFill>
                <a:latin typeface="Arial"/>
              </a:rPr>
              <a:t>2. нестабил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8360" y="3716280"/>
            <a:ext cx="4038480" cy="10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1. балансира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2. небалансира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2376360" y="5084640"/>
            <a:ext cx="5435640" cy="144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наслеђене (фамилијарн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ненаслеђене, нове</a:t>
            </a: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r-Latn-RS" sz="2800" spc="-1" strike="noStrike">
                <a:solidFill>
                  <a:srgbClr val="ff0000"/>
                </a:solidFill>
                <a:latin typeface="Arial"/>
              </a:rPr>
              <a:t>de no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71380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Узроци прекида хромозома: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Спонтани прекид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Кластогени (чиниоци спољашње средине)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зрачењ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хемијски агенс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вирус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Генетички узроц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Врсте структурних аберација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99640" y="2707920"/>
            <a:ext cx="552924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ЕЛЕ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УПЛИКА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ИНВЕРЗ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РАНСЛОКА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Делеција - парцијална монозомија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1.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Чисте делеције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настају као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следица прекида 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ромозому и губитка прекинутог 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)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ерминалне делеције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настаје као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следица  преки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у теломери хромозо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инг хромоз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настаје услед прекида на обе теломере хромозома и спајања прекинутих крајева у прстенасту структу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б)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терстицијална делеција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настај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след два преки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у нивоу једног кра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па се фрагмент између прекида губ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5p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4p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9p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2. Делеције у комбинацији са дупликациј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0" descr="rin_chrom"/>
          <p:cNvPicPr/>
          <p:nvPr/>
        </p:nvPicPr>
        <p:blipFill>
          <a:blip r:embed="rId1"/>
          <a:stretch/>
        </p:blipFill>
        <p:spPr>
          <a:xfrm>
            <a:off x="179280" y="2316240"/>
            <a:ext cx="3961080" cy="409896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3"/>
          <p:cNvSpPr/>
          <p:nvPr/>
        </p:nvSpPr>
        <p:spPr>
          <a:xfrm>
            <a:off x="0" y="692280"/>
            <a:ext cx="889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Шематски приказ настанка ринг (прстенастог) хромозома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интерстицијалне деле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" descr=""/>
          <p:cNvPicPr/>
          <p:nvPr/>
        </p:nvPicPr>
        <p:blipFill>
          <a:blip r:embed="rId2"/>
          <a:srcRect l="0" t="17065" r="0" b="0"/>
          <a:stretch/>
        </p:blipFill>
        <p:spPr>
          <a:xfrm>
            <a:off x="4551480" y="2781360"/>
            <a:ext cx="42955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Rectangle 2" descr=""/>
          <p:cNvPicPr/>
          <p:nvPr/>
        </p:nvPicPr>
        <p:blipFill>
          <a:blip r:embed="rId1"/>
          <a:stretch/>
        </p:blipFill>
        <p:spPr>
          <a:xfrm>
            <a:off x="682560" y="549360"/>
            <a:ext cx="7778880" cy="10713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78920" y="2133360"/>
            <a:ext cx="5219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таје услед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неправилног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crossing over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када се хомологи хромозоми асиметрично поставе један наспрам другог, па се дешав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ing over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међу     нехомологим сегментима хомологих хромозо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о резулатат настају два аберантна хромозома, један  са делецијом а други са дупликациј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4" descr="unequal"/>
          <p:cNvPicPr/>
          <p:nvPr/>
        </p:nvPicPr>
        <p:blipFill>
          <a:blip r:embed="rId2"/>
          <a:stretch/>
        </p:blipFill>
        <p:spPr>
          <a:xfrm>
            <a:off x="5508720" y="2133720"/>
            <a:ext cx="3384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Делеци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они синдроми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50920" y="1915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елеције су увек штетн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hri du chat 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р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olff-ов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синдро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р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 Тумор ретине ок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Grouchy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8р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Grouch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инг хромоз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зохромоз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21:33:24Z</dcterms:created>
  <dc:creator>User</dc:creator>
  <dc:description/>
  <dc:language>en-US</dc:language>
  <cp:lastModifiedBy>Olivera Milošević-Đorđević</cp:lastModifiedBy>
  <dcterms:modified xsi:type="dcterms:W3CDTF">2022-01-18T19:13:24Z</dcterms:modified>
  <cp:revision>211</cp:revision>
  <dc:subject/>
  <dc:title>MUTACIJE GENA</dc:title>
</cp:coreProperties>
</file>